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pct" ContentType="image/x-pict"/>
  <Override PartName="/ppt/media/image13.pct" ContentType="image/x-pict"/>
  <Override PartName="/ppt/media/image8.pct" ContentType="image/x-pict"/>
  <Override PartName="/ppt/media/image1.pct" ContentType="image/x-pict"/>
  <Override PartName="/ppt/media/image2.pct" ContentType="image/x-pict"/>
  <Override PartName="/ppt/media/CHIMES.WAV" ContentType="audio/x-wav"/>
  <Override PartName="/ppt/media/image4.pct" ContentType="image/x-pict"/>
  <Override PartName="/ppt/media/image3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  <p:custShowLst>
    <p:custShow name="(1.1)" id="0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E62E-9105-4B5D-88A0-2E121D63F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distribution below, tell how many people are represented and identify the mode, median, and r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m 1: 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m 2: 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m 3 : -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3D50-4451-4C81-820A-17771B91E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128E-0140-4F46-A594-4A34CD7F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AC92-973C-418E-9FE7-C5AD71E34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01D9-AB79-4DB7-9C2B-131C0356A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534E-CC2A-4438-8AF7-DC647AF8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12B8-7F27-4633-9CCF-414B837D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587D-CC69-4EE0-8CDE-D25D371F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4B25-63E0-4EAD-BC03-CA0029B8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B9CA-97A3-4FFF-983B-73C6B989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6BAA-36B4-4FE6-9C80-C316D711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3465-1B62-4439-ADA8-C5B9B9EA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60D6-3D8A-4E9D-93CD-F9C30001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8D15-626E-47FA-AE55-56637BEE8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5.pct"/><Relationship Id="rId4" Type="http://schemas.openxmlformats.org/officeDocument/2006/relationships/package" Target="../embeddings/oleObject2.docx"/><Relationship Id="rId5" Type="http://schemas.openxmlformats.org/officeDocument/2006/relationships/image" Target="../media/image6.pct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7.pct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slide" Target="slide16.xml"/><Relationship Id="rId9" Type="http://schemas.openxmlformats.org/officeDocument/2006/relationships/slide" Target="slide14.xml"/><Relationship Id="rId10" Type="http://schemas.openxmlformats.org/officeDocument/2006/relationships/slide" Target="slide18.xml"/><Relationship Id="rId11" Type="http://schemas.openxmlformats.org/officeDocument/2006/relationships/slide" Target="slide3.xml"/><Relationship Id="rId12" Type="http://schemas.openxmlformats.org/officeDocument/2006/relationships/slide" Target="slide11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9.xml"/><Relationship Id="rId17" Type="http://schemas.openxmlformats.org/officeDocument/2006/relationships/slide" Target="slide17.xml"/><Relationship Id="rId18" Type="http://schemas.openxmlformats.org/officeDocument/2006/relationships/slide" Target="slide8.xml"/><Relationship Id="rId19" Type="http://schemas.openxmlformats.org/officeDocument/2006/relationships/slide" Target="slide7.xml"/><Relationship Id="rId20" Type="http://schemas.openxmlformats.org/officeDocument/2006/relationships/slide" Target="slide6.xml"/><Relationship Id="rId21" Type="http://schemas.openxmlformats.org/officeDocument/2006/relationships/slide" Target="slide19.xml"/><Relationship Id="rId22" Type="http://schemas.openxmlformats.org/officeDocument/2006/relationships/slide" Target="slide19.xml"/><Relationship Id="rId23" Type="http://schemas.openxmlformats.org/officeDocument/2006/relationships/slide" Target="slide20.xml"/><Relationship Id="rId24" Type="http://schemas.openxmlformats.org/officeDocument/2006/relationships/slide" Target="slide21.xml"/><Relationship Id="rId25" Type="http://schemas.openxmlformats.org/officeDocument/2006/relationships/slide" Target="slide22.xml"/><Relationship Id="rId26" Type="http://schemas.openxmlformats.org/officeDocument/2006/relationships/slide" Target="slide3.xml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pct"/><Relationship Id="rId4" Type="http://schemas.openxmlformats.org/officeDocument/2006/relationships/package" Target="../embeddings/oleObject2.docx"/><Relationship Id="rId5" Type="http://schemas.openxmlformats.org/officeDocument/2006/relationships/image" Target="../media/image2.pct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.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990720"/>
            <a:ext cx="7162920" cy="4038480"/>
          </a:xfrm>
          <a:prstGeom prst="wedgeRectCallout">
            <a:avLst>
              <a:gd name="adj1" fmla="val -25486"/>
              <a:gd name="adj2" fmla="val 14935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least common multiple of 30 and 4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(6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228600"/>
            <a:ext cx="716292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9907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066680" y="762120"/>
          <a:ext cx="7162920" cy="3504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762120"/>
                    <a:ext cx="716292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905120" y="4114800"/>
          <a:ext cx="7238880" cy="8967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05120" y="4114800"/>
                    <a:ext cx="7238880" cy="89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the distribution below, tell how many people are represen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dentify the mode, median, and ran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0"/>
            <a:ext cx="716256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10 people represented. The mode is 4. The median is 5. The range is 4–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371600" y="762120"/>
          <a:ext cx="6095880" cy="3504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762120"/>
                    <a:ext cx="609588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4425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; 5-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15238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219320"/>
            <a:ext cx="861048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, 5, 6, 6, 6, 7, 7, 7, 7, 7, 8, 8, 8, 8, 8, 8, 9, 9, 9, 10,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students are in Mr. Watkins’s afternoon math class? Explain how you found your ans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ow do the range of the quiz scores va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2.5 / .25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: 40, 2: 75, 3: 105, 4: 1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143000" y="990720"/>
          <a:ext cx="6705720" cy="3620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990720"/>
                    <a:ext cx="6705720" cy="36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1905120" y="4876920"/>
            <a:ext cx="509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MEASUR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ANGLES 1,2,3 AND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em-and-leaf plot shows the number of 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were caught by several ships in a fishing flee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ships caught 37 fish or few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295280" y="2743200"/>
          <a:ext cx="5943600" cy="2070000"/>
        </p:xfrm>
        <a:graphic>
          <a:graphicData uri="http://schemas.openxmlformats.org/drawingml/2006/table">
            <a:tbl>
              <a:tblPr/>
              <a:tblGrid>
                <a:gridCol w="1471680"/>
                <a:gridCol w="4471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av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3 3 5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2 4 5 8 9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1 2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, 5, 6, 6, 6, 7, 7, 7, 7, 7, 8, 8, 8, 8, 8, 8, 9, 9, 9, 10,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mode of the sc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median of the sc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;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30 x 4.28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284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4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5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6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8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9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0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0"/>
            <a:ext cx="1600200" cy="9471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action/Deci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152280"/>
            <a:ext cx="1524240" cy="7038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apes and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380880"/>
            <a:ext cx="160020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me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010280" y="380880"/>
            <a:ext cx="175284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yst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1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2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4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15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16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17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1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2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21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2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23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24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5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6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is the measure o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? Explain how you found your ans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is the measure o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? Explain how you found your ans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gle 1: 110, Angle 3: 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371600" y="914400"/>
          <a:ext cx="6400800" cy="3368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914400"/>
                    <a:ext cx="6400800" cy="33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0"/>
            <a:ext cx="4343400" cy="6324480"/>
          </a:xfrm>
          <a:prstGeom prst="wedgeRectCallout">
            <a:avLst>
              <a:gd name="adj1" fmla="val 13231"/>
              <a:gd name="adj2" fmla="val 833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 chart below, whi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following statements is fal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e made the most free th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029200" y="1219320"/>
          <a:ext cx="4114800" cy="5638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29200" y="1219320"/>
                    <a:ext cx="411480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685800" y="2652840"/>
          <a:ext cx="3886200" cy="420516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y made more free throws than Shea or J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made more free throws than J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e made the most free throw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ea made less free throws than Nate and Am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7772400" y="5867280"/>
            <a:ext cx="1371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219320" y="2362320"/>
          <a:ext cx="6933960" cy="1066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362320"/>
                    <a:ext cx="693396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ily Dou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838080" y="1544760"/>
          <a:ext cx="8153640" cy="470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544760"/>
                    <a:ext cx="8153640" cy="47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304920" y="1600200"/>
          <a:ext cx="15803280" cy="373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1580328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2273400" y="266760"/>
            <a:ext cx="36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 to the Daily Dou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D. J.’s Drink Stand, Erika ordered a cup of fru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ch made with the following reci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4 cup lemon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12 cup cranberry ju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 cup orange ju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fraction of Erika’s cup will be orange juic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many degrees will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inute hand on a clock m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1 full rota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0 deg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219320"/>
            <a:ext cx="7162920" cy="4038480"/>
          </a:xfrm>
          <a:prstGeom prst="wedgeRectCallout">
            <a:avLst>
              <a:gd name="adj1" fmla="val -20833"/>
              <a:gd name="adj2" fmla="val 19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nd the prime factorization of the following two number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w your work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0"/>
            <a:ext cx="7086600" cy="10159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752480" y="685800"/>
          <a:ext cx="1295640" cy="345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685800"/>
                    <a:ext cx="129564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1676520" y="228600"/>
          <a:ext cx="914400" cy="3780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76520" y="228600"/>
                    <a:ext cx="91440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the greatest comm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ctor of 30 and 42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137160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3/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600200" y="1523880"/>
          <a:ext cx="6172200" cy="3129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1523880"/>
                    <a:ext cx="6172200" cy="31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17524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nd the area of each shap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: 10 B: 7.5 C: 17.5 D: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066680" y="685800"/>
          <a:ext cx="7086600" cy="4267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685800"/>
                    <a:ext cx="70866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dith is planning a party for her younger brot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 has 36 prizes and 24 balloons. How many child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she have at the party so that each child gets an equ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prizes and an equal number of balloon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 your ans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28600"/>
            <a:ext cx="7239240" cy="82548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dith could have 1, 2, 3, 4, 6, or 12 children at the party. These numbers are common factors of 24 and 3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Kevin Murphy</cp:lastModifiedBy>
  <cp:lastPrinted>2001-01-31T16:21:13Z</cp:lastPrinted>
  <dcterms:modified xsi:type="dcterms:W3CDTF">2008-03-24T16:48:38Z</dcterms:modified>
  <cp:revision>63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